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2755-3124-4313-9C19-65BA75EF83EF}"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28C45-A5E8-41E7-933F-7264D0A18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E6159-FF9E-4649-BDD0-7FBD1E668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94A0E-E095-40F2-AE46-23384EA87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6CC37-8B79-4381-B696-410CC63A6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79C6C-8B0F-4687-AC69-E64AB53002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E2078-3B8F-4EB3-BDBF-7E3AFE807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20BF6-6A58-4EFC-A29F-0A3DCD12A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31F6F-82D3-4E76-AA9E-2AEA5A802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F9CC4-3398-4B0C-A320-39E2A1EAC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CD96E-8E83-4BDD-A557-B48BE9E16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07E7A-259B-480F-9E0E-02B4A8614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586D0-B1D7-4F3B-9BF0-C31CF6CBA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1A1B2-5D40-4E98-98B2-149E4B298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9D37D-C7F9-4D46-8A1A-B08787DC0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53ACE-F649-4D0B-9F99-ED0413642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33FBAB-5609-4847-872B-F21E140D6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746EB-A717-494A-A854-4D861FF36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6CF48-BCB2-4948-B5A4-AE3AAB6C8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F2CBC-53FD-4192-A57B-EEC92E5D3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2EAB7-74E9-406D-A90C-3648CDEAF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EA49E-785F-48BF-AA33-88F06F6EA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149CF-D7CF-4355-8717-07740BCE8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D6381-A940-409C-85CC-7AEB4699E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51927-2ED5-42FA-890F-54E9E7237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6ACE-3A45-4E37-B908-A46A97DBF8E7}"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D2A3-FFED-4854-B26A-477ACCAE6076}"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RomaK</cp:lastModifiedBy>
  <dcterms:modified xsi:type="dcterms:W3CDTF">2015-09-04T09:35:48Z</dcterms:modified>
  <cp:revision>6</cp:revision>
  <dc:subject/>
  <dc:title>What were Social effects of the industrial revolution</dc:title>
</cp:coreProperties>
</file>